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E38-BF20-4CCF-BE66-BAE2D899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CD7-514F-40B6-B16B-820122C8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24B-F52D-468B-A938-2453C215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90A-3189-446A-9556-96912826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407-EA42-41F9-A774-498653C5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8E9-7793-4921-B89A-FDA1072D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FB6-6997-486E-A857-F9921C7E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B39-9896-4EE5-A215-F0BC58A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C55-28E0-440A-8818-DC20B73B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AA8-C0A3-48E4-98F2-0F8DDD9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930-7D37-44E7-8E66-7C3CE44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08B-45C1-4A38-8B96-EE8C7833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55C2-5750-4E1D-B778-8257E73F3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34320" cy="59436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400440" y="6095880"/>
            <a:ext cx="2209680" cy="642600"/>
            <a:chOff x="6400440" y="6095880"/>
            <a:chExt cx="2209680" cy="642600"/>
          </a:xfrm>
        </p:grpSpPr>
        <p:sp>
          <p:nvSpPr>
            <p:cNvPr id="43" name=""/>
            <p:cNvSpPr/>
            <p:nvPr/>
          </p:nvSpPr>
          <p:spPr>
            <a:xfrm flipH="1">
              <a:off x="6400440" y="6324480"/>
              <a:ext cx="4568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7640" y="6095880"/>
              <a:ext cx="1752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@ 1mint  is ok as it i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400440" y="3581280"/>
            <a:ext cx="2514600" cy="824040"/>
            <a:chOff x="6400440" y="3581280"/>
            <a:chExt cx="2514600" cy="824040"/>
          </a:xfrm>
        </p:grpSpPr>
        <p:sp>
          <p:nvSpPr>
            <p:cNvPr id="46" name=""/>
            <p:cNvSpPr/>
            <p:nvPr/>
          </p:nvSpPr>
          <p:spPr>
            <a:xfrm flipH="1">
              <a:off x="6400440" y="3809880"/>
              <a:ext cx="649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49880" y="3581280"/>
              <a:ext cx="18651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15mint lightgreen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120" y="2514600"/>
            <a:ext cx="2590920" cy="580680"/>
            <a:chOff x="6324120" y="2514600"/>
            <a:chExt cx="2590920" cy="580680"/>
          </a:xfrm>
        </p:grpSpPr>
        <p:sp>
          <p:nvSpPr>
            <p:cNvPr id="49" name=""/>
            <p:cNvSpPr/>
            <p:nvPr/>
          </p:nvSpPr>
          <p:spPr>
            <a:xfrm flipH="1">
              <a:off x="6324120" y="274320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3000" y="2514600"/>
              <a:ext cx="19220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30mint light red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324120" y="1523880"/>
            <a:ext cx="2590920" cy="520200"/>
            <a:chOff x="6324120" y="1523880"/>
            <a:chExt cx="2590920" cy="520200"/>
          </a:xfrm>
        </p:grpSpPr>
        <p:sp>
          <p:nvSpPr>
            <p:cNvPr id="52" name=""/>
            <p:cNvSpPr/>
            <p:nvPr/>
          </p:nvSpPr>
          <p:spPr>
            <a:xfrm flipH="1">
              <a:off x="6324120" y="175248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93000" y="1523880"/>
              <a:ext cx="19220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 @ 50mint dark red color on ce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143000" y="3049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2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mint plot of can heating from 25 to 127 °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erature profile inside the can at different times during Cherry pomace Ret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066680"/>
            <a:ext cx="8762760" cy="5791320"/>
            <a:chOff x="0" y="1066680"/>
            <a:chExt cx="8762760" cy="5791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4965480" y="3962520"/>
              <a:ext cx="37972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4892760" y="1219320"/>
              <a:ext cx="3870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066680"/>
              <a:ext cx="38700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3962520"/>
              <a:ext cx="38700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24200" y="266688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1120" y="525780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the color change( for the can) based on time and referring to the first Mint as I showed in first slide on the color lege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ean as in slide 2 at time 15 mint the center temperature should be light green( 8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going out to yellow light red and dark red ( As shown in first slide for the can at 1 m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r time at 50 mint( 125.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 should be red to dark 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y way to do that and control the color based on time of heating and refering to the first mint of heating legend color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22:35:47Z</dcterms:created>
  <dc:creator>greibyib</dc:creator>
  <dc:description/>
  <dc:language>en-US</dc:language>
  <cp:lastModifiedBy>greibyib</cp:lastModifiedBy>
  <dcterms:modified xsi:type="dcterms:W3CDTF">2011-05-05T17:44:16Z</dcterms:modified>
  <cp:revision>4</cp:revision>
  <dc:subject/>
  <dc:title>Slide 1</dc:title>
</cp:coreProperties>
</file>